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34E-8E61-4359-8184-99943C6F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7BC-CC30-4EA2-8303-983CCC4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F57-1555-4A04-85BE-7FE48C63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122-E102-48F5-BACC-DF70A04B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D7BED-4BDC-45B4-9326-E14059CC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A6CCA-2C99-4AD9-B7B3-DB3DD4E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534B-41C9-435E-92D4-DFA4B5BE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51E3-8E32-4EB0-A83E-1820239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5F0A5-2E39-47BF-8C8A-0E108CF3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310C-1F52-4818-B757-A9E530B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F844-241B-4452-A11E-87F1400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399-FFCD-42B9-8305-73F058C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CCE58-453C-4BD9-BB07-751C687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2B56-E62C-44BE-A3B3-8BE29DE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93B01-968A-4CCA-8CCD-7A7EC26C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F4C47-53F3-4922-8791-AFB15B4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AE53-D763-4A69-9F6E-9C47E016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C90-3A5F-4ED6-A17C-60059A6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D2A-49F1-4811-A4AC-B2E4F493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CFA-2FF1-4494-95CB-382B31E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D23-793A-4DF7-B480-CF0615E9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F08-C638-4AC9-99C9-3AFE6A9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68D-1FE0-4456-BED2-8CDAA34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E8E-73EC-43A2-A2E9-CB5D0BB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730-3BB6-4838-92D5-70A8A3533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E7A-77C7-4309-83EC-AC5A80607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enshealth.about.com/cs/ovarianconditions/a/yrovrisovuovads.htm" TargetMode="External"/><Relationship Id="rId3" Type="http://schemas.openxmlformats.org/officeDocument/2006/relationships/hyperlink" Target="http://www.mamashealth.com/ORGANS/OVARIES.ASP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external image ovaries.jpg&amp;sa=X&amp;ei=eupSTY2yDsycgQffsMigCA&amp;ved=0CAQQ8wc&amp;usg=AFQjCNGFFiiloIRVDC1UBPFc6ZrU8ezvOg"/>
          <p:cNvPicPr/>
          <p:nvPr/>
        </p:nvPicPr>
        <p:blipFill>
          <a:blip r:embed="rId2"/>
          <a:stretch/>
        </p:blipFill>
        <p:spPr>
          <a:xfrm>
            <a:off x="2362320" y="0"/>
            <a:ext cx="4468680" cy="4468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VAR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ries are located in the pelvis, there is one on each side of the ute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external image 161349.jpg"/>
          <p:cNvPicPr/>
          <p:nvPr/>
        </p:nvPicPr>
        <p:blipFill>
          <a:blip r:embed="rId2"/>
          <a:stretch/>
        </p:blipFill>
        <p:spPr>
          <a:xfrm>
            <a:off x="2895480" y="129240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rmones Produc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t makes bones strong; it lowers cholesterol; it causes the uterus to enlarge during the reproductive cycl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t helps prepare female bodies for conception and pregnancy and regulates the monthly menstrual cycle. It also plays an important role in female sexual des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external image estrogen.gif&amp;sa=X&amp;ei=DMdaTf22IJDegQeb2KnqDQ&amp;ved=0CAQQ8wc&amp;usg=AFQjCNH3p31OIm98hJRYfbaC7HyH826L1w"/>
          <p:cNvPicPr/>
          <p:nvPr/>
        </p:nvPicPr>
        <p:blipFill>
          <a:blip r:embed="rId2"/>
          <a:stretch/>
        </p:blipFill>
        <p:spPr>
          <a:xfrm>
            <a:off x="0" y="0"/>
            <a:ext cx="201924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external image progesterone-mol.gif&amp;sa=X&amp;ei=zchaTdO2IoLqgAfIv537DQ&amp;ved=0CAQQ8wc&amp;usg=AFQjCNH6Q24BjgfECrdMk341BiqXl19rjA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r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Estrogens are produced by developing follicles in the ovaries, the corpus luteum, and the placenta. Luteinizing hormone (LH) stimulates the production of estrogen in the ovar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3516480"/>
            <a:ext cx="35053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t should sta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Without it there is no childr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it there's no hair, nails,Boobs and mo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omenshealth.about.com/cs/ovarianconditions/a/yrovrisovuovads.ht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MAMASHEALTH.COM/ORGANS/OVARIES.ASP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REVOLUTIONHEALTH.COM/ARTICLES/SHOULD-I-HAVE-MY-OVARIES-REMOVED-TO-PREVENT-OVARIAN-CANCER/ZX3060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HAREDJOURNEY.COM/DEFINE/OVA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ABCNEWS.GO.COM/HEALTH/ONCALLPLUSRISKANDPREVENTION/STORY?ID=365585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26:55Z</dcterms:created>
  <dc:creator>703243</dc:creator>
  <dc:description/>
  <dc:language>en-US</dc:language>
  <cp:lastModifiedBy>703243</cp:lastModifiedBy>
  <dcterms:modified xsi:type="dcterms:W3CDTF">2011-02-16T19:03:01Z</dcterms:modified>
  <cp:revision>2</cp:revision>
  <dc:subject/>
  <dc:title>Slide 1</dc:title>
</cp:coreProperties>
</file>